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6517F-4787-4CCF-A57C-DD33ACED2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8577A-8E99-4FA1-BA95-4B6B60A15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FD128-4902-4B6B-A5E2-5D81D7C55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B133B-B942-415E-9FF9-59956BD66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E3070-F04B-4938-AD4B-EAD45EC24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CDC93-13D3-49F5-903A-FC2696447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31BA4-6B9A-4248-8CAE-E11D49E18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61824-6271-4515-B326-BBF1EFC5D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7D04B-C55A-4FAC-963C-4D5E798C3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AB28A-E745-45A5-9A95-6D1674770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94A81-D76A-4247-9811-9639E01C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68914-C9D7-4C32-A368-A9DAF1E7D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46EB4-C0B8-414F-B650-0A6C63D8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23CFE-F1DA-4F42-93B3-D1247AB2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608DD-A323-4615-82DF-423C10B5A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C7B6D-8D68-477E-849D-E0B7BCF07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F5536-DD1E-408C-B2BE-6BE5B4011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27CE9-B10F-4EAB-9401-173F186A6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F47B2-8800-4AC0-B8A4-205DA6C40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3FB85-27CF-45AF-B452-8128DDEB5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77482-02B3-4D7D-BA59-918119B03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9E355-90CC-45F6-B335-CBDB5082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064EE-9753-46D8-9A44-FA1565EC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F0B34-4E95-4ADB-9000-117CB85E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gency F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593A8-EB00-4208-8292-7ED17ECC028E}" type="slidenum">
              <a:rPr b="0" lang="bg-BG" sz="1200" spc="-1" strike="noStrike">
                <a:solidFill>
                  <a:srgbClr val="ffffff"/>
                </a:solidFill>
                <a:latin typeface="Agency FB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gency F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7EA0B-8B1C-4B9B-921D-27154DE4545D}" type="slidenum">
              <a:rPr b="0" lang="bg-BG" sz="1200" spc="-1" strike="noStrike">
                <a:solidFill>
                  <a:srgbClr val="ffffff"/>
                </a:solidFill>
                <a:latin typeface="Agency FB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992160"/>
            <a:ext cx="957744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ffffff"/>
                </a:solidFill>
                <a:latin typeface="Garamond"/>
              </a:rPr>
              <a:t>16</a:t>
            </a: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8 (658)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bg-BG" sz="40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1" lang="bg-BG" sz="4000" spc="-1" strike="noStrike">
                <a:solidFill>
                  <a:srgbClr val="ffffff"/>
                </a:solidFill>
                <a:latin typeface="Garamond"/>
              </a:rPr>
              <a:t> Скръбта си дълбоко скрий и зарови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Garamond"/>
              </a:rPr>
              <a:t>в тоз свят има доста, не притуряи ти! Тежка ли е скръбта ти, о, кажи тогаз всичко на Исуса - Той е твоят Спас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252360" y="144720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Garamond"/>
              </a:rPr>
              <a:t>2. На Христа кажи я, Той за теб умря! На Христа кажи я, помощ ще даде! Слуша Той молитва и сам призова всички уморени с най-нежни слов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252360" y="144720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Garamond"/>
              </a:rPr>
              <a:t>3. Колко има в скръб потънали души! Иди им на помощ, радвай, утеши! А тъгата в твоите плачещи оч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Garamond"/>
              </a:rPr>
              <a:t>на Христа хвърли я - ще я олекни!</a:t>
            </a:r>
            <a:r>
              <a:rPr b="0" lang="bg-BG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4-17T14:51:19Z</dcterms:modified>
  <cp:revision>100</cp:revision>
  <dc:subject/>
  <dc:title>Slide 1</dc:title>
</cp:coreProperties>
</file>